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4A6-D723-4C34-9753-91B95872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7E4-9D8F-4054-92BB-5851D0E9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DAD-17AA-48DF-BCB8-B67E332C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B84-3A97-4D9D-84CF-70156E24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8E88D-F0DE-4716-80C3-AB6AC6D5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5EFE9-6439-4350-A25E-2107E1F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676CD-8F0E-49F9-9B6C-87D525E3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D2AE8-54CA-4DA5-A216-E3E47F68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C4B19-8B51-49D5-AC72-A7D47968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CBE54-CD42-476A-BFB4-662F1CFC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EFC28-26BA-481D-A506-856E304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258-8D71-4BEF-9055-51537D98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E63B2-194F-4E91-96BE-2C15EBA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AF670-D075-4BFB-85B5-B89F8DC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9041F-0DEA-4B7C-B33D-2C944C06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8910B-1C6B-4074-9C2B-35392484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49111-FC19-4A63-9C57-40256D7B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738-E11B-490B-8009-8977C408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D4F-3949-47AA-9A6F-09EAF607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76D-CA4F-4874-9303-CB3ADD16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7D1-FD11-4C68-90B2-4FF7676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320-BF1E-463A-B991-BA806B2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3C1-5453-4F6C-A836-E8142D4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E44-AF0D-4401-8CF6-C28648E4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99C9-60F1-4FAF-9D70-264D5E82F5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BAB-88C0-4378-92C6-58A2133F7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teacher.net/USProjects/USQuizzes/EarlySettlement1A.htm" TargetMode="Externa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533520"/>
            <a:ext cx="76201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 REVIEW PART 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LONIZATION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ONSTR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 of Proprietary  Colonies (Gifts from the King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yland – Lord Baltimore (Catholic) – created as a haven for Catholics became partially tolerant of Protestants (164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nsylvania – William Penn and the Quak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cifist, tolerant (religious and Native American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olin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rth Carolina (resembles Virginia but more democratic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Carolina – settled by Englishmen from Barbados – slave trade ris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tually most proprietary colonies returned to royal own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Confederation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what was the purpose???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leads to Dominion of 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Coloni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w York – Had been New Netherland until Dutch were overtak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orgia – Debtor colony created to allow repayment through 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gional Difference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ther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glican, single crop, rural, labor dependent, shorter life sp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Eng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 religious, urban &amp; rural combination, diverse economy, longer life span, lowest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uly middle, tolerant, independent, diverse economy, lower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Practice Quiz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lationship between the Colonies and Brita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cy of salutary neglect stimulates autonomy and self-government while fueling mercantilism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at is this?) (how did the British government enforce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uropean struggles for power move to Ame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ench Indian War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fought for control over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bany Pla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purpose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aty of Paris 1763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outcome for France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lamation of 1763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angers the colonists – why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Revolution Issu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Reven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ugar Act (1</a:t>
            </a:r>
            <a:r>
              <a:rPr b="0" lang="en-US" sz="2400" spc="-1" strike="noStrike" baseline="30000">
                <a:solidFill>
                  <a:srgbClr val="ffcc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amp Act (Most protes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wnshend A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Cont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rtering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laratory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olerable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nial respon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Massac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s of lib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Tea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mmittees of correspo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/ Second Continental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utcomes of American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Paris 178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ependence / Territory / Resumption of T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= no executive, no power to tax, collect, or borrow, no power to regulate trade (BI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W Ordin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y is this important in the long run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s lead to Constitutional Conv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reation of a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mpromise = K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J Plan:   Articles of Conf with more po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 Plan:  Three branches, bicameral leg, proportional re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(Connecticut) Compromise:  Proportional rep + uniform re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/5 Compromise:  Settles rep and tax status of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slave discussion till 180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doption of the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vs. Antifederali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ill of Rights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protect who from what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W – First Presid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efferson vs. Hamilto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pretation of the Constitut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strict vs. loose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ption, National Bank,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challenge wha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ation of two-party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2 John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Age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acteristics of a Federali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nterpretation? Foreign relations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ace (X,Y,Z and Convention of 180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iminate opposition (Alien &amp; Sedi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Y / VA resolutions = null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ck the courts (Judiciary Act of 180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Comic Sans MS"/>
              </a:rPr>
              <a:t>Marbury v. Madison establishes the principle of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Colonial Ameri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quistadors – 3 G’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mallpox and the start of slavery leads to…….deaths of millions of Na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new global economic system Europe has everyth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b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U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3 Thomas Jeffer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olution of 18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gac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uisiana Purchase / Lewis &amp; Cla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federalist programs int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problem with France/Britain to Madison (Embargo of 1807 –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auses what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#4 James Madison /#5 James Monro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D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con’s Bill No 2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r of 18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Who support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Who doesn’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Gh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riff of 1816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oal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nry Clay – American Syst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mponent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nic of 18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ra of Good Feel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urpose of the nam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ssouri Compromi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 Doctr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6 John Quincy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rupt Bargai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y named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Clay = Sec of Stat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riff of 1828 (Tariff of Abominat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litical football – Scheme to create lose/lose for Ada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oks to protect indust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deeply upset – major consumers of manufactured goo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tential intrusion into slavery – loss of prestige/power in federal govern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houn authors “The Exposition” – VP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argument for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ies increase voter turnout and create the “Era of the Common Man”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return to the ideals of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7 Andrew Jack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effersoni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gs to rich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ecutive lead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on fir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llification crisi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over wha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 vs. 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ian relo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le of the Supreme Cour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k of 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oostook War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o vs. who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ifest Destiny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at is this?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as Oregon annexed peacefully, but not Texas?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y did it take so long for Texas to be a state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y of Guadalupe Hidalg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who got what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mot Provis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purpose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sidents #8-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V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k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best example of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y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llmo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er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chan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Great Awakening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sets the foundation for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rmon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y persecuted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seph Smi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gham Young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topian commun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desire for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neca Falls Convention (1848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urpose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lt of domesticity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o, what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ah Webster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(contribution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race Mann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(goal of public education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bolition and Coming Cris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romise of 1850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conditions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gitive Slave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Northern response?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et Beecher Stow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o, what, importance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nsas-Nebraska Act (1854)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example of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now-Nothing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ed Scott Deci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ublican Party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vil War and Reconstruc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ess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even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aring North &amp; South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advantages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eign involve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goals?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aring Presi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ancipation Proclam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Pl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ncol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ade-Dav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itutional Iss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Amendments (13,14,15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 of Reconstruct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even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rly  English Settlem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mestown – 1607 (Virginia Compan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successful settlement**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oint-stock company: a group of investors who bought the right to establish New World plantations from the k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not prepared – high death rates from starvation and disease (wife jerk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ian relations – one sided benef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838080"/>
            <a:ext cx="8305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owth of Virginia (Chesapeake Region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Rolfe – King tobacco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s of succ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nd = end of Indian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at was this last War called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bor =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fitability draws more coloni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s southern single crop depe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rony of 16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rginia House of Burgess (first step to self-gov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rst shipment of African sla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lgrims and Mass Bay Compa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itan movement in England creates need for new relig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paratists leave England to create a new community in the Americas – Mayflower 162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flower Compact – governments power comes from the consent of the gover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ss Bay Colon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(change church from within ) form larger colony in 1629 (better funded &amp; prepare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and Separatists do not tolerate religious freedom (IRONIC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Roger Williams banished (creates Rhode Islan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big things about R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igious freedom for a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ery Democrat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ne Hutchinson banished for preaching antinomianism (belief that those predestined need not obey secular law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ity Upon a Hill – John Winthro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rican exceptionalism is the idea that the United States and the American people hold a special place in the world, by offering opportunity and hope for humanity, derived from a unique balance of public and private interests governed by constitutional ideals that are focused on personal and economic freedo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wth of American Slaver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imary source of labor until Bacon’s rebell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y did they rebel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n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 expensive with similar contracts to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velops into ‘modern’ version with elimination of rights and permanent (hereditary) status as prop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gal in all colonies by 17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8534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9072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9:28:46Z</dcterms:created>
  <dc:creator>Joeb</dc:creator>
  <dc:description/>
  <dc:language>en-US</dc:language>
  <cp:lastModifiedBy>School District U46</cp:lastModifiedBy>
  <dcterms:modified xsi:type="dcterms:W3CDTF">2011-01-08T15:00:09Z</dcterms:modified>
  <cp:revision>102</cp:revision>
  <dc:subject/>
  <dc:title>PowerPoint Presentation</dc:title>
</cp:coreProperties>
</file>